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B6DE73-BEA8-49A8-BA2F-6D7BE6A688F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1EB710-7FD0-4C7B-A733-5D20D4567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72A680-6A5A-48D4-9417-1E2E4247B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D05A91-60C4-4F44-8BD5-B8885483010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9DBEDF-390E-474E-A748-AEC0D7555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183922-4BA6-46B6-A914-84553F543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738C58-7F64-4A4C-B75A-E78690396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28F389-C1FF-42DD-9204-9E10E8FEC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2C9A12-46D7-4D4E-864D-A2158DA23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38A683-9709-42CF-AAB6-336334EDA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157A0A-12C9-4DA5-A721-65E27D066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3EE2B0-294E-46ED-BA50-4ED76D6B5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C33E8-145C-4783-8F09-F93660848E7D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95280" y="2492280"/>
            <a:ext cx="5905440" cy="165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十六节  老年人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6732720" y="5516640"/>
            <a:ext cx="143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Arial"/>
                <a:ea typeface="宋体"/>
              </a:rPr>
              <a:t>林萍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十六节    老年人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10920" y="1371240"/>
            <a:ext cx="8304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二、主要功能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7.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感觉功能减退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视觉功能减退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听觉功能减退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嗅觉功能减退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味觉功能减退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十六节    老年人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4000" y="1125000"/>
            <a:ext cx="8065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二、主要功能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8.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心血管功能减退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心肌逐渐萎缩，心脏收缩力减弱 ，心率减慢 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动脉弹性降低，心肌的血液不足时，引发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冠心病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。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主要表现：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心绞痛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、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心律失常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或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心肌梗死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等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十六节    老年人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三、康复护理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（一）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ADL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评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进食、更衣、沐浴、移动、如厕和控制大小便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（二）心理健康状况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情绪与情感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 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认知能力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 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压力与应对能力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（三）生活质量综合评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十六节    老年人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四、康复护理目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短期目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创造良好生活和训练环境，稳定病人情绪；增强自我照顾能力，延缓躯体、心理老化进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长期目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促进保持最佳功能状态，延缓老化进程，提高生活质量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十六节    老年人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五、康复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孤独自闭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多与外界联系 ，多参加娱乐活动 。多些时间陪伴老人，使其享受天伦之乐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焦虑或抑郁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建立规律的活动与睡眠习惯。鼓励和倾听老年人的内心宣泄，关心体贴老年人，严防自杀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十六节    老年人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五、康复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自理能力下降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鼓励老年人多参与家务劳动，尽量自己照顾自己，防止过早退化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4.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营养失调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老年人的食物应以细软、易消化为原则，少量多餐，多给易消化的、含蛋白质的食物，如牛奶、鱼、鸡蛋、蔬菜、水果等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十六节    老年人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五、康复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5.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便秘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多食含粗纤维的食物，如粗粮、蔬菜和水果，多饮水，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日可饮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6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8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杯水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6.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睡眠障碍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不过多饮食，睡前看书、看报时间不宜过长，睡前不饮茶或咖啡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7.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骨质疏松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多参加户外活动，增加日光照射时间。在日光照射难以保证的情况下，口服适量的鱼肝油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十六节    老年人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五、康复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8.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前列腺肥大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每天喝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.5L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开水，以冲洗尿道。每天温水坐浴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次，避免憋尿、长时间的骑跨、久坐等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9.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退行性骨关节炎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注意保护关节功能，避免过度使用，适当锻炼或医疗做体操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10.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老年性痴呆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重视智力的训练。防止意外伤和外出迷失方向。外出时身上可带随身卡，记清家庭住址、电话、联系人姓名等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十六节    老年人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六、康复护理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合理营养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积极运动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安全护理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安全用药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5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心理护理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十六节    老年人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370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一、概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随着医学技术的发展和人们生活水准的提高，人的健康水平得到了明显改善，因此，人的寿命延长，老龄人口逐渐增加。根据老年人的身体特点和需要，老年人群必然是康复领域中的主要对象之一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9964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十六节    老年人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731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二、主要功能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（一）心理功能降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孤独自闭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焦虑或抑郁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突然感到不明原因的惊慌、不安、心烦意乱、易怒、失眠、健忘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多疑、自卑、心境低落、少言寡语、不愿意交往、容易激惹、常常为小事自责自罪等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十六节    老年人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208720" cy="516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宋体"/>
                <a:ea typeface="宋体"/>
              </a:rPr>
              <a:t>二、主要功能障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（二）生理功能减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消化系统功能减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营养失调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: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胃肠功能减弱，消化吸收能力减弱。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便秘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: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因排便动力缺乏，膈肌、腹肌、肛提肌及肠平滑肌衰弱，使收缩和蠕动减弱而形成无力性便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十六节    老年人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299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宋体"/>
                <a:ea typeface="宋体"/>
              </a:rPr>
              <a:t>二、主要功能障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230c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神经系统功能减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睡眠障碍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: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表现为入睡困难、睡眠不深、易醒、早醒、醒后不易再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老年性痴呆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: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表现为记忆力障碍、定向力障碍、计算力障碍、情感障碍、行为异常等症状。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十六节    老年人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二、主要功能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内分泌系统功能减退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骨质疏松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老年性糖尿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24000" y="1628640"/>
            <a:ext cx="8610480" cy="436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二、主要功能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    </a:t>
            </a: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4.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泌尿系统功能减退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随着年龄增长，老年人膀胱肌萎缩、容量逐渐减少，排尿时膀胱收缩力减弱，残余尿量增多，从而出现尿急、尿频甚至尿失禁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十六节    老年人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23640" y="1483920"/>
            <a:ext cx="8351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宋体"/>
                <a:ea typeface="宋体"/>
              </a:rPr>
              <a:t>二、主要功能障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230c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运动系统功能减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肌肉：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肌肉弹性降低，收缩力减弱，肌肉变得松弛，容易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疲劳。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骨骼：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骨的弹性和韧性降低，骨质疏松，易出现骨折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关节：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关节面上的软骨退化，出现骨质增生、关节炎等疾病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十六节    老年人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23640" y="1341000"/>
            <a:ext cx="8280360" cy="51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二、主要功能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6.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呼吸系统功能减退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老年人由于呼吸肌、膈肌以及韧带萎缩，气管及支气管上皮退行性变化，使肺及气管弹性减弱，通气和换气功能减退，易发生肺部感染、肺气肿及阻塞性肺疾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Guest2</cp:lastModifiedBy>
  <cp:lastPrinted>1899-12-30T00:00:00Z</cp:lastPrinted>
  <dcterms:modified xsi:type="dcterms:W3CDTF">2015-12-17T02:28:08Z</dcterms:modified>
  <cp:revision>26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